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5FD83-4445-4DB7-93C8-12FF08C38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94AB7-C033-4E22-931B-A5275ABE8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B281B-3686-4042-B35B-A9A59DBF9E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BDE50F-B81C-4342-8C83-A9BA1F603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B0D606-0A4D-4F4C-BB21-9F489900C7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DA997-158B-4E26-AC61-56D4BA4B6D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529F2-C17E-4396-8910-39B196F23B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D38D2-15FB-4E78-AF76-72498FE65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CA6E37-7428-4AF5-BF9C-9CB3958FE2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D29CE8-8C12-458E-9256-C52D11B82E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EAB3AA-8E12-4CC4-ADF0-BB73A5C92B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CB083E-E9AA-4803-AF88-C23C24A910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9A44A-699D-4995-B751-E432BE851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85B00A-F6F2-4777-9DE8-D171A4E6F4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21F03-ECB7-42AA-B992-F61D780955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972C2E-365F-42EC-87CE-27BE1482EE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450847-0B31-4981-AFE9-1EF6CA3CC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F0B5D-4331-4CD6-A7EA-17CD7F51C1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A066C-9042-4816-9477-889DFE0D2B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E659AF-C7BB-4DC8-8225-788378B4AE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FA42F-526B-4800-B1A9-0F9823ED7E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62979-C84C-4BF8-908C-151E4686C6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35B554-773E-4F2F-BDE3-B04E9E98E3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A0ED9-967A-46BB-8476-BE840689A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AFAD42-F97B-4EAF-B1EE-0966D5DA06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530BDA-2F11-44EE-8716-62B808F706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CF8E80-4F25-46F3-9B13-0D92055975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1FB7BC-2ED4-4097-B87B-BE57B04DE1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7C3057-2AB9-4432-AE5B-7D9D2EBF2B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61776A-7C82-497A-B2E7-DF2DC197ED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37ACBA-12F9-4945-A0AE-AD6BC3A43E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A638DA-EB32-443F-9B35-6A50B6980A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873E55-A5B0-443A-BE29-67C4849DCE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21AEC7-F339-4CDC-9FFA-1FE0182F49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31DA08-AAC6-438F-BC1F-119FCC544C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3BABCD-3F50-4E3F-822C-78F21B4A16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BA1315-3A20-4319-9D68-AEC927581E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7484A9-6B9B-4F8B-9489-D011D5FF1F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93310A-A630-4688-A111-6042E69FCA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C5954B-3290-4A00-8E27-D53740389E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B688DD-8735-4ED5-9057-ABD2D62E40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940C72-E326-4E9C-80AB-CCBE849CBE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8641A3-9535-4AD3-B652-B88D2ADF5B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32978D-1909-4F52-BE80-0D4114D9AD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553FEB-28AF-46D2-97FA-B36602FE43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B259B8-0999-456A-8CF4-EA7E47C693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9AE4E3-0E03-4AE2-9799-90CDAA0E86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AC40B5-0961-4886-950C-FA159BC378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5ADDE8-446E-44FF-8379-99EF9A88D3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48363A-5C7F-46CB-A8C6-D76833BD46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758733-1D9F-4F7B-A2EA-4D63E70C06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C9B3DF-D004-4B44-9754-9DD5F6EA54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1DCEA8-9B8C-41B2-8688-1B2A890627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FBBC7C-2696-4D45-8C4D-E06C073465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4536CE-0C01-42FD-9E10-4D2770B6E8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74991F-D2DD-430D-8543-1E46835241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BD7E8D-6FB1-44CE-9D15-647775A316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BECD8B-B1CF-45DD-BAEB-2FBF3C6398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7DB5DA-2B23-4831-92B2-7088C21A96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774538-06CB-452A-AED4-F4E466E23F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9BBA1E-57B9-4E71-BCE1-05C0D13BB9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8A8419-F31C-4AF3-82D5-45F5D5D2DD1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2521F4-7C02-437B-96EF-373B2A0288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37C2FF-1E92-44E3-B671-BB85B293AD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796D01-0A8B-4DFE-A555-4C8F9A6F83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572D9C-1CF5-4652-A11D-0B840DF173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9DCBA8-BEFD-4946-BC48-28DFFD61DE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2F3EE8-893A-49E1-A73B-94725E19FD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B64758-DC70-435D-B3AC-E22FDDBD77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FF57A2-A4C6-4A26-817B-EE63EC7BF7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F47888-93FF-47AC-B14F-A77AF26901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B293E6-AD7F-479D-8435-D5C8C4FD621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CB5C61F-441B-4158-9D91-599257C366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95700-A11F-440E-BB7A-FB88804BF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96AACA-5491-4FFD-90DC-8EF995A269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89E456-A658-44D4-B4FE-455C5DB890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320528-E7C9-459A-BE58-0F83C0DBE0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54EE31-B0AA-4022-8537-8D60F5DE1E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350948-A025-43BD-B506-CB91691A44B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9D7B-C760-4872-93F3-D0AB98ED1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2A36B3-7027-4156-992A-80BA0EDD82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4491E2-E454-48E9-A7F4-8C316FC296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3730C7-A166-468E-AC49-2DAD54F17F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12D949-DA89-4822-B286-923B558354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2EF06C-0718-4ABC-A558-A12150D923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1A2D268-E938-41BD-B7E1-4D97505A00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F52CAF1-D9BD-46D4-9A80-0E8E5826965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14823-13C6-4EF2-B784-3493B2F80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05A6-B2F9-4500-9592-9C49F4AC4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7D460-0CCC-4342-A7C7-C88B90FD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ABEFB4-7785-4F19-B297-5C38216283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5557EB-6F13-48B6-A962-17C2048DB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D2662A-3DAA-4172-8C22-8FAD650DD1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1F615C-AEE7-424E-A995-7B3928F85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F9F487-88F7-499C-BC0B-81066D85B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3F58D-913A-4E64-B65B-636E52A91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D2DC7-86B1-4C6D-9D4F-CBEAC98C8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85E91-5495-4433-A946-DADEF8947D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0A798-87EA-41A1-BDC5-F4D916DAF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E5A2-160B-4767-AEA7-8BE5D9B8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0A1417-EB4F-45F2-BEFC-50FBD2AEDC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78FF04-540C-4257-8BE0-10C4DA6C4F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2DCEAE-2DB9-46CC-A1A5-9FF91EEEEB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EEEA49-2F06-43FF-9A72-30895B799C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D3066A-5EE7-44C2-B7D2-5C4C6DDEA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42751D-87EE-4B16-A398-CEA764F00E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E04A5D-CFCE-4902-ACB6-6092AEF0C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B7E4C-EAB1-4FD6-ACCE-7B45096406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647622-FB14-4404-BAF1-B020140178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E70DE-9CB4-4FD4-ABDC-778D9813E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CA63-B58E-454A-B459-000F5032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156D4-0FDB-4730-8EE3-5F096992FD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DA184-AB06-4757-9139-6A2D78784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E1E6E8-0B40-4571-8B7F-20BA172034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E29E08-4557-4B95-8EBA-570EC16C6B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3DE5EF-8B26-47C1-A9C9-78F4A25C3B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931FA1-3107-4F9E-AFB4-2D5CB226C0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7FE127-04C2-464A-AB1F-F8C913CC9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E744D1-689D-4754-AB6E-B28BF2690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F60B0-351E-4D4C-9008-1B650C8AD7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7A836-5F5D-4E47-AE3D-2EA238F9C3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28604-40E9-4EBD-8251-44BBC064D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E76E79-FFCF-4F8D-BE5E-D7B021FF6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547533-D754-4DC6-8FAA-F97162B7C2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92A16F-C4BB-4C67-B9FE-C028DAFDA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2F025-60E3-4F36-82E6-3FD00488A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F2234-4409-4B51-BD51-56D3F1B7A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21A950-A29F-4D4A-9334-EED012EDB0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2EC00A-66C5-4714-B825-D4A2335FFA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20FFD4-6E51-48A8-98B4-4F78110B03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57241A-1494-424B-84AB-0AA308CAFE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957A70-9E95-4621-A779-4130A850F5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8566-C02B-40DB-9DEC-4702D6B5D238}"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custGeom>
              <a:avLst/>
              <a:gdLst/>
              <a:ahLst/>
              <a:rect l="l" t="t" r="r" b="b"/>
              <a:pathLst>
                <a:path w="4251960" h="6387352">
                  <a:moveTo>
                    <a:pt x="0" y="0"/>
                  </a:moveTo>
                  <a:lnTo>
                    <a:pt x="4090641" y="0"/>
                  </a:lnTo>
                  <a:lnTo>
                    <a:pt x="4251960" y="161319"/>
                  </a:lnTo>
                  <a:lnTo>
                    <a:pt x="4251960" y="6387352"/>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92" name="Teardrop 8"/>
            <p:cNvSpPr/>
            <p:nvPr/>
          </p:nvSpPr>
          <p:spPr>
            <a:xfrm>
              <a:off x="3885840" y="432360"/>
              <a:ext cx="354960" cy="354960"/>
            </a:xfrm>
            <a:custGeom>
              <a:avLst/>
              <a:gdLst/>
              <a:ahLst/>
              <a:rect l="l" t="t" r="r" b="b"/>
              <a:pathLst>
                <a:path w="355002" h="355002">
                  <a:moveTo>
                    <a:pt x="0" y="177501"/>
                  </a:moveTo>
                  <a:cubicBezTo>
                    <a:pt x="0" y="79470"/>
                    <a:pt x="79470" y="0"/>
                    <a:pt x="177501" y="0"/>
                  </a:cubicBezTo>
                  <a:lnTo>
                    <a:pt x="355002" y="0"/>
                  </a:lnTo>
                  <a:lnTo>
                    <a:pt x="355002" y="177501"/>
                  </a:lnTo>
                  <a:cubicBezTo>
                    <a:pt x="355002" y="275532"/>
                    <a:pt x="275532" y="355002"/>
                    <a:pt x="177501" y="355002"/>
                  </a:cubicBezTo>
                  <a:cubicBezTo>
                    <a:pt x="79470" y="355002"/>
                    <a:pt x="0" y="275532"/>
                    <a:pt x="0" y="177501"/>
                  </a:cubicBez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393" name="Snip Diagonal Corner Rectangle 9"/>
          <p:cNvSpPr/>
          <p:nvPr/>
        </p:nvSpPr>
        <p:spPr>
          <a:xfrm flipV="1">
            <a:off x="4648320" y="227520"/>
            <a:ext cx="4251240" cy="6388200"/>
          </a:xfrm>
          <a:custGeom>
            <a:avLst/>
            <a:gdLst/>
            <a:ahLst/>
            <a:rect l="l" t="t" r="r" b="b"/>
            <a:pathLst>
              <a:path w="4251960" h="6387352">
                <a:moveTo>
                  <a:pt x="0" y="0"/>
                </a:moveTo>
                <a:lnTo>
                  <a:pt x="4090641" y="0"/>
                </a:lnTo>
                <a:lnTo>
                  <a:pt x="4251960" y="161319"/>
                </a:lnTo>
                <a:lnTo>
                  <a:pt x="4251960" y="6387352"/>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6E38-B4A0-4E44-84AE-CFB36DB6C269}"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custGeom>
              <a:avLst/>
              <a:gdLst/>
              <a:ahLst/>
              <a:rect l="l" t="t" r="r" b="b"/>
              <a:pathLst>
                <a:path w="4251960" h="6387352">
                  <a:moveTo>
                    <a:pt x="0" y="0"/>
                  </a:moveTo>
                  <a:lnTo>
                    <a:pt x="4090641" y="0"/>
                  </a:lnTo>
                  <a:lnTo>
                    <a:pt x="4251960" y="161319"/>
                  </a:lnTo>
                  <a:lnTo>
                    <a:pt x="4251960" y="6387352"/>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437" name="Teardrop 8"/>
            <p:cNvSpPr/>
            <p:nvPr/>
          </p:nvSpPr>
          <p:spPr>
            <a:xfrm>
              <a:off x="3885840" y="432360"/>
              <a:ext cx="354960" cy="354960"/>
            </a:xfrm>
            <a:custGeom>
              <a:avLst/>
              <a:gdLst/>
              <a:ahLst/>
              <a:rect l="l" t="t" r="r" b="b"/>
              <a:pathLst>
                <a:path w="355002" h="355002">
                  <a:moveTo>
                    <a:pt x="0" y="177501"/>
                  </a:moveTo>
                  <a:cubicBezTo>
                    <a:pt x="0" y="79470"/>
                    <a:pt x="79470" y="0"/>
                    <a:pt x="177501" y="0"/>
                  </a:cubicBezTo>
                  <a:lnTo>
                    <a:pt x="355002" y="0"/>
                  </a:lnTo>
                  <a:lnTo>
                    <a:pt x="355002" y="177501"/>
                  </a:lnTo>
                  <a:cubicBezTo>
                    <a:pt x="355002" y="275532"/>
                    <a:pt x="275532" y="355002"/>
                    <a:pt x="177501" y="355002"/>
                  </a:cubicBezTo>
                  <a:cubicBezTo>
                    <a:pt x="79470" y="355002"/>
                    <a:pt x="0" y="275532"/>
                    <a:pt x="0" y="177501"/>
                  </a:cubicBez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F134-276A-4AF3-B6DD-F5C71C77FB8D}"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custGeom>
            <a:avLst/>
            <a:gdLst/>
            <a:ahLst/>
            <a:rect l="l" t="t" r="r" b="b"/>
            <a:pathLst>
              <a:path w="8686800" h="1963271">
                <a:moveTo>
                  <a:pt x="0" y="0"/>
                </a:moveTo>
                <a:lnTo>
                  <a:pt x="8502783" y="0"/>
                </a:lnTo>
                <a:lnTo>
                  <a:pt x="8686800" y="184017"/>
                </a:lnTo>
                <a:lnTo>
                  <a:pt x="8686800" y="1963271"/>
                </a:lnTo>
                <a:lnTo>
                  <a:pt x="8686800" y="1963271"/>
                </a:lnTo>
                <a:lnTo>
                  <a:pt x="184017" y="1963271"/>
                </a:lnTo>
                <a:lnTo>
                  <a:pt x="0" y="1779254"/>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9A4A-DE9D-4FA1-960F-5C6F39F72E34}"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522"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9949-B549-433B-A9E1-8B5CD1C2C6BE}"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custGeom>
            <a:avLst/>
            <a:gdLst/>
            <a:ahLst/>
            <a:rect l="l" t="t" r="r" b="b"/>
            <a:pathLst>
              <a:path w="8686800" h="6387352">
                <a:moveTo>
                  <a:pt x="0" y="0"/>
                </a:moveTo>
                <a:lnTo>
                  <a:pt x="8525264" y="0"/>
                </a:lnTo>
                <a:lnTo>
                  <a:pt x="8686800" y="161536"/>
                </a:lnTo>
                <a:lnTo>
                  <a:pt x="8686800" y="6387352"/>
                </a:lnTo>
                <a:lnTo>
                  <a:pt x="8686800" y="6387352"/>
                </a:lnTo>
                <a:lnTo>
                  <a:pt x="161536" y="6387352"/>
                </a:lnTo>
                <a:lnTo>
                  <a:pt x="0" y="6225816"/>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EF72-DF63-4903-A3E4-0A2841B5862A}"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920"/>
                <a:ext cx="7543800" cy="2590200"/>
              </a:xfrm>
              <a:custGeom>
                <a:avLst/>
                <a:gdLst/>
                <a:ahLst/>
                <a:rect l="l" t="t" r="r" b="b"/>
                <a:pathLst>
                  <a:path w="7543800" h="2590800">
                    <a:moveTo>
                      <a:pt x="0" y="0"/>
                    </a:moveTo>
                    <a:lnTo>
                      <a:pt x="7352625" y="0"/>
                    </a:lnTo>
                    <a:lnTo>
                      <a:pt x="7543800" y="191175"/>
                    </a:lnTo>
                    <a:lnTo>
                      <a:pt x="7543800" y="2590800"/>
                    </a:lnTo>
                    <a:lnTo>
                      <a:pt x="0" y="2590800"/>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44"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45" name="Teardrop 8"/>
            <p:cNvSpPr/>
            <p:nvPr/>
          </p:nvSpPr>
          <p:spPr>
            <a:xfrm>
              <a:off x="6817680" y="3621600"/>
              <a:ext cx="394200" cy="394200"/>
            </a:xfrm>
            <a:custGeom>
              <a:avLst/>
              <a:gdLst/>
              <a:ahLst/>
              <a:rect l="l" t="t" r="r" b="b"/>
              <a:pathLst>
                <a:path w="394447" h="394447">
                  <a:moveTo>
                    <a:pt x="0" y="197224"/>
                  </a:moveTo>
                  <a:cubicBezTo>
                    <a:pt x="0" y="88300"/>
                    <a:pt x="88300" y="0"/>
                    <a:pt x="197224" y="0"/>
                  </a:cubicBezTo>
                  <a:lnTo>
                    <a:pt x="394447" y="0"/>
                  </a:lnTo>
                  <a:lnTo>
                    <a:pt x="394447" y="197224"/>
                  </a:lnTo>
                  <a:cubicBezTo>
                    <a:pt x="394447" y="306148"/>
                    <a:pt x="306147" y="394448"/>
                    <a:pt x="197223" y="394448"/>
                  </a:cubicBezTo>
                  <a:cubicBezTo>
                    <a:pt x="88299" y="394448"/>
                    <a:pt x="-1" y="306148"/>
                    <a:pt x="-1" y="197224"/>
                  </a:cubicBezTo>
                  <a:lnTo>
                    <a:pt x="0" y="197224"/>
                  </a:ln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87"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982E-F635-4F21-A2E5-A211B161273D}"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920"/>
                <a:ext cx="7543800" cy="2590200"/>
              </a:xfrm>
              <a:custGeom>
                <a:avLst/>
                <a:gdLst/>
                <a:ahLst/>
                <a:rect l="l" t="t" r="r" b="b"/>
                <a:pathLst>
                  <a:path w="7543800" h="2590800">
                    <a:moveTo>
                      <a:pt x="0" y="0"/>
                    </a:moveTo>
                    <a:lnTo>
                      <a:pt x="7352625" y="0"/>
                    </a:lnTo>
                    <a:lnTo>
                      <a:pt x="7543800" y="191175"/>
                    </a:lnTo>
                    <a:lnTo>
                      <a:pt x="7543800" y="2590800"/>
                    </a:lnTo>
                    <a:lnTo>
                      <a:pt x="0" y="2590800"/>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132"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33" name="Teardrop 8"/>
            <p:cNvSpPr/>
            <p:nvPr/>
          </p:nvSpPr>
          <p:spPr>
            <a:xfrm>
              <a:off x="6817680" y="3621600"/>
              <a:ext cx="394200" cy="394200"/>
            </a:xfrm>
            <a:custGeom>
              <a:avLst/>
              <a:gdLst/>
              <a:ahLst/>
              <a:rect l="l" t="t" r="r" b="b"/>
              <a:pathLst>
                <a:path w="394447" h="394447">
                  <a:moveTo>
                    <a:pt x="0" y="197224"/>
                  </a:moveTo>
                  <a:cubicBezTo>
                    <a:pt x="0" y="88300"/>
                    <a:pt x="88300" y="0"/>
                    <a:pt x="197224" y="0"/>
                  </a:cubicBezTo>
                  <a:lnTo>
                    <a:pt x="394447" y="0"/>
                  </a:lnTo>
                  <a:lnTo>
                    <a:pt x="394447" y="197224"/>
                  </a:lnTo>
                  <a:cubicBezTo>
                    <a:pt x="394447" y="306148"/>
                    <a:pt x="306147" y="394448"/>
                    <a:pt x="197223" y="394448"/>
                  </a:cubicBezTo>
                  <a:cubicBezTo>
                    <a:pt x="88299" y="394448"/>
                    <a:pt x="-1" y="306148"/>
                    <a:pt x="-1" y="197224"/>
                  </a:cubicBezTo>
                  <a:lnTo>
                    <a:pt x="0" y="197224"/>
                  </a:ln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840"/>
                <a:ext cx="7543800" cy="2590200"/>
              </a:xfrm>
              <a:custGeom>
                <a:avLst/>
                <a:gdLst/>
                <a:ahLst/>
                <a:rect l="l" t="t" r="r" b="b"/>
                <a:pathLst>
                  <a:path w="7543800" h="2590800">
                    <a:moveTo>
                      <a:pt x="0" y="0"/>
                    </a:moveTo>
                    <a:lnTo>
                      <a:pt x="7352625" y="0"/>
                    </a:lnTo>
                    <a:lnTo>
                      <a:pt x="7543800" y="191175"/>
                    </a:lnTo>
                    <a:lnTo>
                      <a:pt x="7543800" y="2590800"/>
                    </a:lnTo>
                    <a:lnTo>
                      <a:pt x="0" y="2590800"/>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177" name="Straight Connector 10"/>
              <p:cNvSpPr/>
              <p:nvPr/>
            </p:nvSpPr>
            <p:spPr>
              <a:xfrm flipH="1">
                <a:off x="1599840" y="212724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78" name="Teardrop 8"/>
            <p:cNvSpPr/>
            <p:nvPr/>
          </p:nvSpPr>
          <p:spPr>
            <a:xfrm>
              <a:off x="8521200" y="2369160"/>
              <a:ext cx="394200" cy="394200"/>
            </a:xfrm>
            <a:custGeom>
              <a:avLst/>
              <a:gdLst/>
              <a:ahLst/>
              <a:rect l="l" t="t" r="r" b="b"/>
              <a:pathLst>
                <a:path w="394447" h="394447">
                  <a:moveTo>
                    <a:pt x="0" y="197224"/>
                  </a:moveTo>
                  <a:cubicBezTo>
                    <a:pt x="0" y="88300"/>
                    <a:pt x="88300" y="0"/>
                    <a:pt x="197224" y="0"/>
                  </a:cubicBezTo>
                  <a:lnTo>
                    <a:pt x="394447" y="0"/>
                  </a:lnTo>
                  <a:lnTo>
                    <a:pt x="394447" y="197224"/>
                  </a:lnTo>
                  <a:cubicBezTo>
                    <a:pt x="394447" y="306148"/>
                    <a:pt x="306147" y="394448"/>
                    <a:pt x="197223" y="394448"/>
                  </a:cubicBezTo>
                  <a:cubicBezTo>
                    <a:pt x="88299" y="394448"/>
                    <a:pt x="-1" y="306148"/>
                    <a:pt x="-1" y="197224"/>
                  </a:cubicBezTo>
                  <a:lnTo>
                    <a:pt x="0" y="197224"/>
                  </a:lnTo>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220"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263E-D047-4FB0-B4AF-6A9398AABC8C}"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263"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1227-C1C6-4C22-B68F-A0E034F1B03A}"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custGeom>
            <a:avLst/>
            <a:gdLst/>
            <a:ahLst/>
            <a:rect l="l" t="t" r="r" b="b"/>
            <a:pathLst>
              <a:path w="8686800" h="4908176">
                <a:moveTo>
                  <a:pt x="0" y="0"/>
                </a:moveTo>
                <a:lnTo>
                  <a:pt x="8490326" y="0"/>
                </a:lnTo>
                <a:lnTo>
                  <a:pt x="8686800" y="196474"/>
                </a:lnTo>
                <a:lnTo>
                  <a:pt x="8686800" y="4908176"/>
                </a:lnTo>
                <a:lnTo>
                  <a:pt x="8686800" y="4908176"/>
                </a:lnTo>
                <a:lnTo>
                  <a:pt x="196474" y="4908176"/>
                </a:lnTo>
                <a:lnTo>
                  <a:pt x="0" y="4711702"/>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06" name="Snip Diagonal Corner Rectangle 7"/>
          <p:cNvSpPr/>
          <p:nvPr/>
        </p:nvSpPr>
        <p:spPr>
          <a:xfrm flipV="1">
            <a:off x="228600" y="228240"/>
            <a:ext cx="8686800" cy="1278000"/>
          </a:xfrm>
          <a:custGeom>
            <a:avLst/>
            <a:gdLst/>
            <a:ahLst/>
            <a:rect l="l" t="t" r="r" b="b"/>
            <a:pathLst>
              <a:path w="8686800" h="1277473">
                <a:moveTo>
                  <a:pt x="0" y="0"/>
                </a:moveTo>
                <a:lnTo>
                  <a:pt x="8537668" y="0"/>
                </a:lnTo>
                <a:lnTo>
                  <a:pt x="8686800" y="149132"/>
                </a:lnTo>
                <a:lnTo>
                  <a:pt x="8686800" y="1277473"/>
                </a:lnTo>
                <a:lnTo>
                  <a:pt x="8686800" y="1277473"/>
                </a:lnTo>
                <a:lnTo>
                  <a:pt x="149132" y="1277473"/>
                </a:lnTo>
                <a:lnTo>
                  <a:pt x="0" y="1128341"/>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03AF-687F-40BD-A5EB-162A163255C4}"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custGeom>
            <a:avLst/>
            <a:gdLst/>
            <a:ahLst/>
            <a:rect l="l" t="t" r="r" b="b"/>
            <a:pathLst>
              <a:path w="8686800" h="6387352">
                <a:moveTo>
                  <a:pt x="0" y="0"/>
                </a:moveTo>
                <a:lnTo>
                  <a:pt x="8525264" y="0"/>
                </a:lnTo>
                <a:lnTo>
                  <a:pt x="8686800" y="161536"/>
                </a:lnTo>
                <a:lnTo>
                  <a:pt x="8686800" y="6387352"/>
                </a:lnTo>
                <a:lnTo>
                  <a:pt x="8686800" y="6387352"/>
                </a:lnTo>
                <a:lnTo>
                  <a:pt x="161536" y="6387352"/>
                </a:lnTo>
                <a:lnTo>
                  <a:pt x="0" y="6225816"/>
                </a:lnTo>
                <a:lnTo>
                  <a:pt x="0" y="0"/>
                </a:lnTo>
                <a:close/>
              </a:path>
            </a:pathLst>
          </a:custGeom>
          <a:solidFill>
            <a:srgbClr val="ffffff"/>
          </a:solidFill>
          <a:ln w="0">
            <a:noFill/>
          </a:ln>
          <a:effectLst>
            <a:outerShdw dist="63639" dir="2700000" blurRad="0" rotWithShape="0">
              <a:srgbClr val="00000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Corbe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3423-009A-4234-8E03-383397E4826F}"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hippocampus.org/History%20&amp;%20Government?loadLeftClass=CourseCombination&amp;loadLeftId=17&amp;loadTopicId=1685"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92280" y="3484440"/>
            <a:ext cx="586728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74576"/>
                </a:solidFill>
                <a:latin typeface="Corbel"/>
              </a:rPr>
              <a:t>American History</a:t>
            </a:r>
            <a:endParaRPr b="0" lang="en-US" sz="4600" spc="-1" strike="noStrike">
              <a:solidFill>
                <a:srgbClr val="174576"/>
              </a:solidFill>
              <a:latin typeface="Corbel"/>
            </a:endParaRPr>
          </a:p>
        </p:txBody>
      </p:sp>
      <p:sp>
        <p:nvSpPr>
          <p:cNvPr id="607" name="PlaceHolder 2"/>
          <p:cNvSpPr>
            <a:spLocks noGrp="1"/>
          </p:cNvSpPr>
          <p:nvPr>
            <p:ph type="subTitle"/>
          </p:nvPr>
        </p:nvSpPr>
        <p:spPr>
          <a:xfrm>
            <a:off x="0" y="4954680"/>
            <a:ext cx="7238880" cy="1015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74576"/>
                </a:solidFill>
                <a:uFillTx/>
                <a:latin typeface="Corbel"/>
              </a:rPr>
              <a:t>Topic</a:t>
            </a:r>
            <a:r>
              <a:rPr b="0" lang="en-US" sz="2800" spc="-1" strike="noStrike">
                <a:solidFill>
                  <a:srgbClr val="174576"/>
                </a:solidFill>
                <a:latin typeface="Corbel"/>
              </a:rPr>
              <a:t>: Conformity and Consensus in the 1950s</a:t>
            </a:r>
            <a:endParaRPr b="0" lang="en-US" sz="2800" spc="-1" strike="noStrike">
              <a:solidFill>
                <a:srgbClr val="174576"/>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4576"/>
                </a:solidFill>
                <a:latin typeface="Corbel"/>
              </a:rPr>
              <a:t>*2 Day Lesson</a:t>
            </a:r>
            <a:endParaRPr b="0" lang="en-US" sz="2800" spc="-1" strike="noStrike">
              <a:solidFill>
                <a:srgbClr val="174576"/>
              </a:solidFill>
              <a:latin typeface="Corbel"/>
            </a:endParaRPr>
          </a:p>
        </p:txBody>
      </p:sp>
      <p:pic>
        <p:nvPicPr>
          <p:cNvPr id="608" name="Picture 4" descr=""/>
          <p:cNvPicPr/>
          <p:nvPr/>
        </p:nvPicPr>
        <p:blipFill>
          <a:blip r:embed="rId1"/>
          <a:stretch/>
        </p:blipFill>
        <p:spPr>
          <a:xfrm>
            <a:off x="0" y="0"/>
            <a:ext cx="8996400" cy="321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Back to the notes….</a:t>
            </a:r>
            <a:endParaRPr b="0" lang="en-US" sz="3800" spc="-1" strike="noStrike">
              <a:solidFill>
                <a:srgbClr val="174576"/>
              </a:solidFill>
              <a:latin typeface="Corbel"/>
            </a:endParaRPr>
          </a:p>
        </p:txBody>
      </p:sp>
      <p:pic>
        <p:nvPicPr>
          <p:cNvPr id="633" name="" descr=""/>
          <p:cNvPicPr/>
          <p:nvPr/>
        </p:nvPicPr>
        <p:blipFill>
          <a:blip r:embed="rId1"/>
          <a:stretch/>
        </p:blipFill>
        <p:spPr>
          <a:xfrm>
            <a:off x="779040" y="1949400"/>
            <a:ext cx="7583400" cy="400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174576"/>
                </a:solidFill>
                <a:latin typeface="Corbel"/>
              </a:rPr>
              <a:t>Dennis v. U.S. </a:t>
            </a:r>
            <a:r>
              <a:rPr b="0" lang="en-US" sz="3800" spc="-1" strike="noStrike">
                <a:solidFill>
                  <a:srgbClr val="174576"/>
                </a:solidFill>
                <a:latin typeface="Corbel"/>
              </a:rPr>
              <a:t>(1951)</a:t>
            </a:r>
            <a:endParaRPr b="0" lang="en-US" sz="3800" spc="-1" strike="noStrike">
              <a:solidFill>
                <a:srgbClr val="174576"/>
              </a:solidFill>
              <a:latin typeface="Corbel"/>
            </a:endParaRPr>
          </a:p>
        </p:txBody>
      </p:sp>
      <p:sp>
        <p:nvSpPr>
          <p:cNvPr id="63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Leaders of the American Communist party were jailed for advocating the overthrow of the U.S. governmen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In </a:t>
            </a:r>
            <a:r>
              <a:rPr b="0" i="1" lang="en-US" sz="2200" spc="-1" strike="noStrike">
                <a:solidFill>
                  <a:srgbClr val="174576"/>
                </a:solidFill>
                <a:latin typeface="Corbel"/>
              </a:rPr>
              <a:t>Dennis v. U.S., </a:t>
            </a:r>
            <a:r>
              <a:rPr b="0" lang="en-US" sz="2200" spc="-1" strike="noStrike">
                <a:solidFill>
                  <a:srgbClr val="174576"/>
                </a:solidFill>
                <a:latin typeface="Corbel"/>
              </a:rPr>
              <a:t>the Supreme Court upheld the constitutionality of the 1940 </a:t>
            </a:r>
            <a:r>
              <a:rPr b="1" lang="en-US" sz="2200" spc="-1" strike="noStrike">
                <a:solidFill>
                  <a:srgbClr val="174576"/>
                </a:solidFill>
                <a:latin typeface="Corbel"/>
              </a:rPr>
              <a:t>Smith Act </a:t>
            </a:r>
            <a:r>
              <a:rPr b="0" lang="en-US" sz="2200" spc="-1" strike="noStrike">
                <a:solidFill>
                  <a:srgbClr val="174576"/>
                </a:solidFill>
                <a:latin typeface="Corbel"/>
              </a:rPr>
              <a:t>which made it illegal to advocate the overthrow of the govt. by force or to belong to such a group</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ourt ruled it was ok to teach about Communism, but not to “advocate” it as an ideology because that presented a “clear and present danger” (</a:t>
            </a:r>
            <a:r>
              <a:rPr b="0" i="1" lang="en-US" sz="2200" spc="-1" strike="noStrike">
                <a:solidFill>
                  <a:srgbClr val="174576"/>
                </a:solidFill>
                <a:latin typeface="Corbel"/>
              </a:rPr>
              <a:t>Schenck v. US</a:t>
            </a:r>
            <a:r>
              <a:rPr b="0" lang="en-US" sz="2200" spc="-1" strike="noStrike">
                <a:solidFill>
                  <a:srgbClr val="174576"/>
                </a:solidFill>
                <a:latin typeface="Corbel"/>
              </a:rPr>
              <a:t> – yelling fire in a crowded theater)</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McCarren Internal Security Act (1950)</a:t>
            </a:r>
            <a:endParaRPr b="0" lang="en-US" sz="3800" spc="-1" strike="noStrike">
              <a:solidFill>
                <a:srgbClr val="174576"/>
              </a:solidFill>
              <a:latin typeface="Corbel"/>
            </a:endParaRPr>
          </a:p>
        </p:txBody>
      </p:sp>
      <p:sp>
        <p:nvSpPr>
          <p:cNvPr id="637" name=""/>
          <p:cNvSpPr txBox="1"/>
          <p:nvPr/>
        </p:nvSpPr>
        <p:spPr>
          <a:xfrm>
            <a:off x="779400" y="1949400"/>
            <a:ext cx="4741920" cy="4006800"/>
          </a:xfrm>
          <a:prstGeom prst="rect">
            <a:avLst/>
          </a:prstGeom>
          <a:noFill/>
          <a:ln w="0">
            <a:noFill/>
          </a:ln>
        </p:spPr>
        <p:txBody>
          <a:bodyPr anchor="t">
            <a:normAutofit fontScale="90000"/>
          </a:bodyPr>
          <a:p>
            <a:pPr marL="308520" indent="-30852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Over Truman’s veto, Congress passed the MISA. It had 3 provisions:</a:t>
            </a:r>
            <a:endParaRPr b="0" lang="en-US" sz="2200" spc="-1" strike="noStrike">
              <a:solidFill>
                <a:srgbClr val="174576"/>
              </a:solidFill>
              <a:latin typeface="Corbel"/>
            </a:endParaRPr>
          </a:p>
          <a:p>
            <a:pPr marL="308520" indent="-308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1) Made it unlawful to advocate the establishment of a totalitarian govt.</a:t>
            </a:r>
            <a:endParaRPr b="0" lang="en-US" sz="2200" spc="-1" strike="noStrike">
              <a:solidFill>
                <a:srgbClr val="174576"/>
              </a:solidFill>
              <a:latin typeface="Corbel"/>
            </a:endParaRPr>
          </a:p>
          <a:p>
            <a:pPr marL="308520" indent="-308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2) Restricted the employment and traveling of those joining Communist-front organizations</a:t>
            </a:r>
            <a:endParaRPr b="0" lang="en-US" sz="2200" spc="-1" strike="noStrike">
              <a:solidFill>
                <a:srgbClr val="174576"/>
              </a:solidFill>
              <a:latin typeface="Corbel"/>
            </a:endParaRPr>
          </a:p>
          <a:p>
            <a:pPr marL="308520" indent="-308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3) Authorized the creation of detention camps for subversives</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HippoCampus Video on McCarthy</a:t>
            </a:r>
            <a:endParaRPr b="0" lang="en-US" sz="3800" spc="-1" strike="noStrike">
              <a:solidFill>
                <a:srgbClr val="174576"/>
              </a:solidFill>
              <a:latin typeface="Corbel"/>
            </a:endParaRPr>
          </a:p>
        </p:txBody>
      </p:sp>
      <p:sp>
        <p:nvSpPr>
          <p:cNvPr id="63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286c9"/>
                </a:solidFill>
                <a:uFillTx/>
                <a:latin typeface="Corbel"/>
                <a:hlinkClick r:id="rId1"/>
              </a:rPr>
              <a:t>McCarthyism Video</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McCarthy’s Tactics</a:t>
            </a:r>
            <a:endParaRPr b="0" lang="en-US" sz="3800" spc="-1" strike="noStrike">
              <a:solidFill>
                <a:srgbClr val="174576"/>
              </a:solidFill>
              <a:latin typeface="Corbel"/>
            </a:endParaRPr>
          </a:p>
        </p:txBody>
      </p:sp>
      <p:pic>
        <p:nvPicPr>
          <p:cNvPr id="641" name="Content Placeholder 3" descr=""/>
          <p:cNvPicPr/>
          <p:nvPr/>
        </p:nvPicPr>
        <p:blipFill>
          <a:blip r:embed="rId1"/>
          <a:srcRect l="-33743" t="0" r="-33743" b="0"/>
          <a:stretch/>
        </p:blipFill>
        <p:spPr>
          <a:xfrm>
            <a:off x="4175280" y="1949400"/>
            <a:ext cx="5765760" cy="4006800"/>
          </a:xfrm>
          <a:prstGeom prst="rect">
            <a:avLst/>
          </a:prstGeom>
          <a:ln w="0">
            <a:noFill/>
          </a:ln>
        </p:spPr>
      </p:pic>
      <p:sp>
        <p:nvSpPr>
          <p:cNvPr id="642" name="TextBox 4"/>
          <p:cNvSpPr/>
          <p:nvPr/>
        </p:nvSpPr>
        <p:spPr>
          <a:xfrm>
            <a:off x="615960" y="1949400"/>
            <a:ext cx="44449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154"/>
                </a:solidFill>
                <a:latin typeface="Corbel"/>
              </a:rPr>
              <a:t>He used constant unsupported accusations about Communists in government to keep the media focus on himself and discredit the Truman administration</a:t>
            </a:r>
            <a:endParaRPr b="0" lang="en-US" sz="26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154"/>
                </a:solidFill>
                <a:latin typeface="Corbel"/>
              </a:rPr>
              <a:t>He was 1) elevating own career AND 2) hoping to elevate Eisenhower campaign</a:t>
            </a:r>
            <a:endParaRPr b="0" lang="en-US" sz="26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Tactics</a:t>
            </a:r>
            <a:endParaRPr b="0" lang="en-US" sz="3800" spc="-1" strike="noStrike">
              <a:solidFill>
                <a:srgbClr val="174576"/>
              </a:solidFill>
              <a:latin typeface="Corbel"/>
            </a:endParaRPr>
          </a:p>
        </p:txBody>
      </p:sp>
      <p:pic>
        <p:nvPicPr>
          <p:cNvPr id="644" name="Content Placeholder 3" descr=""/>
          <p:cNvPicPr/>
          <p:nvPr/>
        </p:nvPicPr>
        <p:blipFill>
          <a:blip r:embed="rId1"/>
          <a:srcRect l="0" t="3618" r="0" b="3618"/>
          <a:stretch/>
        </p:blipFill>
        <p:spPr>
          <a:xfrm>
            <a:off x="5381640" y="1949400"/>
            <a:ext cx="2981160" cy="4006800"/>
          </a:xfrm>
          <a:prstGeom prst="rect">
            <a:avLst/>
          </a:prstGeom>
          <a:ln w="0">
            <a:noFill/>
          </a:ln>
        </p:spPr>
      </p:pic>
      <p:sp>
        <p:nvSpPr>
          <p:cNvPr id="645" name="TextBox 4"/>
          <p:cNvSpPr/>
          <p:nvPr/>
        </p:nvSpPr>
        <p:spPr>
          <a:xfrm>
            <a:off x="584280" y="1949400"/>
            <a:ext cx="4294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154"/>
                </a:solidFill>
                <a:latin typeface="Corbel"/>
              </a:rPr>
              <a:t>Middle-class Americans loved his “take the gloves off” approach with hard-hitting remarks aimed at the wealthy</a:t>
            </a:r>
            <a:endParaRPr b="0" lang="en-US" sz="24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154"/>
                </a:solidFill>
                <a:latin typeface="Corbel"/>
              </a:rPr>
              <a:t>His popularity soared so even President Eisenhower did not defend his close friend George Marshall (Marshall Plan) when McCarthy accused Marshall of being a communist</a:t>
            </a:r>
            <a:endParaRPr b="0" lang="en-US" sz="24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McCarthy’s Downfall</a:t>
            </a:r>
            <a:endParaRPr b="0" lang="en-US" sz="3800" spc="-1" strike="noStrike">
              <a:solidFill>
                <a:srgbClr val="174576"/>
              </a:solidFill>
              <a:latin typeface="Corbel"/>
            </a:endParaRPr>
          </a:p>
        </p:txBody>
      </p:sp>
      <p:sp>
        <p:nvSpPr>
          <p:cNvPr id="647"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In 1954, McCarthy had accused the army of Communism and the Senate held a live TV hearing</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McCarthy viewed as a bully by millions on ABC and is why ABC was able to become a  major network</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McCarthy could never prove his claims and he was discredited after verbally sparring with Army Counsel Joseph Welch</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nti-McCarthyism </a:t>
            </a:r>
            <a:endParaRPr b="0" lang="en-US" sz="3800" spc="-1" strike="noStrike">
              <a:solidFill>
                <a:srgbClr val="174576"/>
              </a:solidFill>
              <a:latin typeface="Corbel"/>
            </a:endParaRPr>
          </a:p>
        </p:txBody>
      </p:sp>
      <p:pic>
        <p:nvPicPr>
          <p:cNvPr id="649" name="Content Placeholder 3" descr=""/>
          <p:cNvPicPr/>
          <p:nvPr/>
        </p:nvPicPr>
        <p:blipFill>
          <a:blip r:embed="rId1"/>
          <a:srcRect l="0" t="23581" r="0" b="23581"/>
          <a:stretch/>
        </p:blipFill>
        <p:spPr>
          <a:xfrm>
            <a:off x="4737240" y="1949400"/>
            <a:ext cx="3927240" cy="4006800"/>
          </a:xfrm>
          <a:prstGeom prst="rect">
            <a:avLst/>
          </a:prstGeom>
          <a:ln w="0">
            <a:noFill/>
          </a:ln>
        </p:spPr>
      </p:pic>
      <p:sp>
        <p:nvSpPr>
          <p:cNvPr id="650" name="TextBox 4"/>
          <p:cNvSpPr/>
          <p:nvPr/>
        </p:nvSpPr>
        <p:spPr>
          <a:xfrm>
            <a:off x="584280" y="2236680"/>
            <a:ext cx="41529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Anyone opposed to his crusade against Communism</a:t>
            </a:r>
            <a:endParaRPr b="0" lang="en-US" sz="2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Many were fearful of his accusations which could lead to losing a job, being jailed, etc</a:t>
            </a:r>
            <a:endParaRPr b="0" lang="en-US" sz="2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2-1-1</a:t>
            </a:r>
            <a:endParaRPr b="0" lang="en-US" sz="3800" spc="-1" strike="noStrike">
              <a:solidFill>
                <a:srgbClr val="174576"/>
              </a:solidFill>
              <a:latin typeface="Corbel"/>
            </a:endParaRPr>
          </a:p>
        </p:txBody>
      </p:sp>
      <p:sp>
        <p:nvSpPr>
          <p:cNvPr id="652"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image associated with the 1950s was one of consensus and conformity. But rising up in the heart of society was rebellion. This rebellion was fueled by the restlessness of youths and the passion of civil rights activists.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Learning Goal</a:t>
            </a:r>
            <a:endParaRPr b="0" lang="en-US" sz="3800" spc="-1" strike="noStrike">
              <a:solidFill>
                <a:srgbClr val="174576"/>
              </a:solidFill>
              <a:latin typeface="Corbel"/>
            </a:endParaRPr>
          </a:p>
        </p:txBody>
      </p:sp>
      <p:sp>
        <p:nvSpPr>
          <p:cNvPr id="610"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4576"/>
                </a:solidFill>
                <a:latin typeface="Corbel"/>
              </a:rPr>
              <a:t>Students will be able to explain, with specific historical examples, how the 1950s were </a:t>
            </a:r>
            <a:r>
              <a:rPr b="0" lang="en-US" sz="3200" spc="-1" strike="noStrike" u="sng">
                <a:solidFill>
                  <a:srgbClr val="174576"/>
                </a:solidFill>
                <a:uFillTx/>
                <a:latin typeface="Corbel"/>
              </a:rPr>
              <a:t>both</a:t>
            </a:r>
            <a:r>
              <a:rPr b="0" lang="en-US" sz="3200" spc="-1" strike="noStrike">
                <a:solidFill>
                  <a:srgbClr val="174576"/>
                </a:solidFill>
                <a:latin typeface="Corbel"/>
              </a:rPr>
              <a:t> a decade of conformity AND rebellion.</a:t>
            </a:r>
            <a:endParaRPr b="0" lang="en-US" sz="3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4576"/>
                </a:solidFill>
                <a:latin typeface="Corbel"/>
              </a:rPr>
              <a:t>Today you will be taking notes and 2 short quizzes/assessments</a:t>
            </a:r>
            <a:endParaRPr b="0" lang="en-US" sz="3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Rubric</a:t>
            </a:r>
            <a:endParaRPr b="0" lang="en-US" sz="3800" spc="-1" strike="noStrike">
              <a:solidFill>
                <a:srgbClr val="174576"/>
              </a:solidFill>
              <a:latin typeface="Corbel"/>
            </a:endParaRPr>
          </a:p>
        </p:txBody>
      </p:sp>
      <p:graphicFrame>
        <p:nvGraphicFramePr>
          <p:cNvPr id="612" name=""/>
          <p:cNvGraphicFramePr/>
          <p:nvPr/>
        </p:nvGraphicFramePr>
        <p:xfrm>
          <a:off x="322200" y="1771560"/>
          <a:ext cx="8531280" cy="4903920"/>
        </p:xfrm>
        <a:graphic>
          <a:graphicData uri="http://schemas.openxmlformats.org/drawingml/2006/table">
            <a:tbl>
              <a:tblPr/>
              <a:tblGrid>
                <a:gridCol w="1778040"/>
                <a:gridCol w="675324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4</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7f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I understand this well enough to teach it to my neighbor &amp; I can explain with concrete historical examples how the 50s were a decade of both conformity and rebellion</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7f01"/>
                    </a:solidFill>
                  </a:tcPr>
                </a:tc>
              </a:tr>
              <a:tr h="126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54"/>
                          </a:solidFill>
                          <a:latin typeface="Corbel"/>
                        </a:rPr>
                        <a:t>3</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8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I know enough to write a competent opening paragraph with concrete historical examples of conformity and rebellion</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8cb"/>
                    </a:solidFill>
                  </a:tcPr>
                </a:tc>
              </a:tr>
              <a:tr h="126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54"/>
                          </a:solidFill>
                          <a:latin typeface="Corbel"/>
                        </a:rPr>
                        <a:t>2</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I get the concepts of conformity and rebellion but do not understand how the 50s shared both concepts </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ce7"/>
                    </a:solidFill>
                  </a:tcPr>
                </a:tc>
              </a:tr>
              <a:tr h="73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54"/>
                          </a:solidFill>
                          <a:latin typeface="Corbel"/>
                        </a:rPr>
                        <a:t>1</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8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I do not understand any historical themes of the the 1950s</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8cb"/>
                    </a:solidFill>
                  </a:tcPr>
                </a:tc>
              </a:tr>
              <a:tr h="73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54"/>
                          </a:solidFill>
                          <a:latin typeface="Corbel"/>
                        </a:rPr>
                        <a:t>0</a:t>
                      </a:r>
                      <a:endParaRPr b="0" lang="en-US" sz="36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I’m not sure what year this is…</a:t>
                      </a:r>
                      <a:endParaRPr b="0" lang="en-US" sz="1800" spc="-1" strike="noStrike">
                        <a:solidFill>
                          <a:srgbClr val="103154"/>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ornell Notes</a:t>
            </a:r>
            <a:endParaRPr b="0" lang="en-US" sz="3800" spc="-1" strike="noStrike">
              <a:solidFill>
                <a:srgbClr val="174576"/>
              </a:solidFill>
              <a:latin typeface="Corbel"/>
            </a:endParaRPr>
          </a:p>
        </p:txBody>
      </p:sp>
      <p:sp>
        <p:nvSpPr>
          <p:cNvPr id="614" name=""/>
          <p:cNvSpPr txBox="1"/>
          <p:nvPr/>
        </p:nvSpPr>
        <p:spPr>
          <a:xfrm>
            <a:off x="779040" y="1949400"/>
            <a:ext cx="222588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4576"/>
                </a:solidFill>
                <a:latin typeface="Corbel"/>
              </a:rPr>
              <a:t>Conformity</a:t>
            </a:r>
            <a:endParaRPr b="0" lang="en-US" sz="2800" spc="-1" strike="noStrike">
              <a:solidFill>
                <a:srgbClr val="174576"/>
              </a:solidFill>
              <a:latin typeface="Corbel"/>
            </a:endParaRPr>
          </a:p>
        </p:txBody>
      </p:sp>
      <p:sp>
        <p:nvSpPr>
          <p:cNvPr id="615" name="TextBox 3"/>
          <p:cNvSpPr/>
          <p:nvPr/>
        </p:nvSpPr>
        <p:spPr>
          <a:xfrm>
            <a:off x="3559320" y="1949400"/>
            <a:ext cx="52052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Examples in the 1950s included:</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Suburbs</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Usage of Interstates</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Levitowns</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Baby Boom</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Consumerism</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a:t>
            </a:r>
            <a:r>
              <a:rPr b="0" lang="en-US" sz="2800" spc="-1" strike="noStrike">
                <a:solidFill>
                  <a:srgbClr val="103154"/>
                </a:solidFill>
                <a:latin typeface="Corbel"/>
              </a:rPr>
              <a:t>We Like Ike” Ad</a:t>
            </a:r>
            <a:endParaRPr b="0" lang="en-US" sz="2800" spc="-1" strike="noStrike">
              <a:solidFill>
                <a:srgbClr val="103154"/>
              </a:solidFill>
              <a:latin typeface="Corbel"/>
            </a:endParaRPr>
          </a:p>
          <a:p>
            <a:pPr>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154"/>
                </a:solidFill>
                <a:latin typeface="Corbel"/>
              </a:rPr>
              <a:t>The American Dream</a:t>
            </a:r>
            <a:endParaRPr b="0" lang="en-US" sz="2800" spc="-1" strike="noStrike">
              <a:solidFill>
                <a:srgbClr val="103154"/>
              </a:solidFill>
              <a:latin typeface="Corbel"/>
            </a:endParaRPr>
          </a:p>
        </p:txBody>
      </p:sp>
      <p:pic>
        <p:nvPicPr>
          <p:cNvPr id="616" name="Picture 4" descr=""/>
          <p:cNvPicPr/>
          <p:nvPr/>
        </p:nvPicPr>
        <p:blipFill>
          <a:blip r:embed="rId1"/>
          <a:stretch/>
        </p:blipFill>
        <p:spPr>
          <a:xfrm>
            <a:off x="198360" y="3416400"/>
            <a:ext cx="3360960" cy="3184560"/>
          </a:xfrm>
          <a:prstGeom prst="rect">
            <a:avLst/>
          </a:prstGeom>
          <a:ln w="0">
            <a:noFill/>
          </a:ln>
        </p:spPr>
      </p:pic>
      <p:pic>
        <p:nvPicPr>
          <p:cNvPr id="617" name="Picture 5" descr=""/>
          <p:cNvPicPr/>
          <p:nvPr/>
        </p:nvPicPr>
        <p:blipFill>
          <a:blip r:embed="rId2"/>
          <a:stretch/>
        </p:blipFill>
        <p:spPr>
          <a:xfrm>
            <a:off x="7243920" y="2808360"/>
            <a:ext cx="1663560" cy="29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Political Ad &amp; Music Samples</a:t>
            </a:r>
            <a:endParaRPr b="0" lang="en-US" sz="3800" spc="-1" strike="noStrike">
              <a:solidFill>
                <a:srgbClr val="174576"/>
              </a:solidFill>
              <a:latin typeface="Corbel"/>
            </a:endParaRPr>
          </a:p>
        </p:txBody>
      </p:sp>
      <p:sp>
        <p:nvSpPr>
          <p:cNvPr id="61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t>
            </a:r>
            <a:r>
              <a:rPr b="0" lang="en-US" sz="2200" spc="-1" strike="noStrike">
                <a:solidFill>
                  <a:srgbClr val="174576"/>
                </a:solidFill>
                <a:latin typeface="Corbel"/>
              </a:rPr>
              <a:t>We Like Ike” Video</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Elvis Presley: “Jailhouse Rock”</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hubby Checker: “Twis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huck Berry: “Johnny B. Good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Little Richard: “Tutti-Frutti”</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Quick Check for Understanding: Assessment a</a:t>
            </a:r>
            <a:endParaRPr b="0" lang="en-US" sz="3400" spc="-1" strike="noStrike">
              <a:solidFill>
                <a:srgbClr val="174576"/>
              </a:solidFill>
              <a:latin typeface="Corbel"/>
            </a:endParaRPr>
          </a:p>
        </p:txBody>
      </p:sp>
      <p:sp>
        <p:nvSpPr>
          <p:cNvPr id="62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cide whether each event is an example of conformity or rebellion:</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Youths listening to Elvis</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Buying a house in the suburbs</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Using a credit card to buy a TV</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fying your parents</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 non-violent “sit in” protest</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Rose Parks refusing to give up her seat</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entral High School / President Eisenhower</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Baby Boom</a:t>
            </a: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a:p>
            <a:pPr marL="343080" indent="-343080">
              <a:buClr>
                <a:srgbClr val="ff7f01"/>
              </a:buClr>
              <a:buSzPct val="90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ornell Notes</a:t>
            </a:r>
            <a:endParaRPr b="0" lang="en-US" sz="3800" spc="-1" strike="noStrike">
              <a:solidFill>
                <a:srgbClr val="174576"/>
              </a:solidFill>
              <a:latin typeface="Corbel"/>
            </a:endParaRPr>
          </a:p>
        </p:txBody>
      </p:sp>
      <p:sp>
        <p:nvSpPr>
          <p:cNvPr id="623" name=""/>
          <p:cNvSpPr txBox="1"/>
          <p:nvPr/>
        </p:nvSpPr>
        <p:spPr>
          <a:xfrm>
            <a:off x="779400" y="1949400"/>
            <a:ext cx="215424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4576"/>
                </a:solidFill>
                <a:latin typeface="Corbel"/>
              </a:rPr>
              <a:t>Rebellion</a:t>
            </a:r>
            <a:endParaRPr b="0" lang="en-US" sz="2800" spc="-1" strike="noStrike">
              <a:solidFill>
                <a:srgbClr val="174576"/>
              </a:solidFill>
              <a:latin typeface="Corbel"/>
            </a:endParaRPr>
          </a:p>
        </p:txBody>
      </p:sp>
      <p:sp>
        <p:nvSpPr>
          <p:cNvPr id="624" name="TextBox 3"/>
          <p:cNvSpPr/>
          <p:nvPr/>
        </p:nvSpPr>
        <p:spPr>
          <a:xfrm>
            <a:off x="3165480" y="1897200"/>
            <a:ext cx="541980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Elvis Presley / Rock n Roll</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James Dean: Rebel Without a Cause</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Catcher in the Rye, J.D. Salinger</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BB King</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Beatniks</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54"/>
                </a:solidFill>
                <a:latin typeface="Corbel"/>
              </a:rPr>
              <a:t>Anyone fighting for civil rights</a:t>
            </a:r>
            <a:endParaRPr b="0" lang="en-US" sz="32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154"/>
              </a:solidFill>
              <a:latin typeface="Corbel"/>
            </a:endParaRPr>
          </a:p>
        </p:txBody>
      </p:sp>
      <p:pic>
        <p:nvPicPr>
          <p:cNvPr id="625" name="Picture 4" descr=""/>
          <p:cNvPicPr/>
          <p:nvPr/>
        </p:nvPicPr>
        <p:blipFill>
          <a:blip r:embed="rId1"/>
          <a:stretch/>
        </p:blipFill>
        <p:spPr>
          <a:xfrm>
            <a:off x="371520" y="3821040"/>
            <a:ext cx="2793960" cy="279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ornell Notes</a:t>
            </a:r>
            <a:endParaRPr b="0" lang="en-US" sz="3800" spc="-1" strike="noStrike">
              <a:solidFill>
                <a:srgbClr val="174576"/>
              </a:solidFill>
              <a:latin typeface="Corbel"/>
            </a:endParaRPr>
          </a:p>
        </p:txBody>
      </p:sp>
      <p:sp>
        <p:nvSpPr>
          <p:cNvPr id="627" name=""/>
          <p:cNvSpPr txBox="1"/>
          <p:nvPr/>
        </p:nvSpPr>
        <p:spPr>
          <a:xfrm>
            <a:off x="243000" y="1949400"/>
            <a:ext cx="33336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74576"/>
                </a:solidFill>
                <a:latin typeface="Corbel"/>
              </a:rPr>
              <a:t>Political Concerns</a:t>
            </a:r>
            <a:endParaRPr b="0" lang="en-US" sz="2600" spc="-1" strike="noStrike">
              <a:solidFill>
                <a:srgbClr val="174576"/>
              </a:solidFill>
              <a:latin typeface="Corbel"/>
            </a:endParaRPr>
          </a:p>
        </p:txBody>
      </p:sp>
      <p:sp>
        <p:nvSpPr>
          <p:cNvPr id="628" name="TextBox 3"/>
          <p:cNvSpPr/>
          <p:nvPr/>
        </p:nvSpPr>
        <p:spPr>
          <a:xfrm>
            <a:off x="3416400" y="1949400"/>
            <a:ext cx="5222880" cy="46645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McCarthyism / Red Scare</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Civil Rights</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03154"/>
                </a:solidFill>
                <a:latin typeface="Corbel"/>
              </a:rPr>
              <a:t>Brown v. Board of Education (1954)</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Pacifism / MLK Jr.</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Ongoing Cold War</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Korean War (1950-1953)</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rPr>
              <a:t>Central High School in Little Rock</a:t>
            </a:r>
            <a:endParaRPr b="0" lang="en-US" sz="2500" spc="-1" strike="noStrike">
              <a:solidFill>
                <a:srgbClr val="103154"/>
              </a:solidFill>
              <a:latin typeface="Corbel"/>
            </a:endParaRPr>
          </a:p>
          <a:p>
            <a:pPr lvl="1" marL="743040" indent="-285840">
              <a:lnSpc>
                <a:spcPct val="100000"/>
              </a:lnSpc>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3154"/>
                </a:solidFill>
                <a:latin typeface="Corbel"/>
                <a:ea typeface="ＭＳ Ｐゴシック"/>
              </a:rPr>
              <a:t>School Integration / National Guard</a:t>
            </a:r>
            <a:endParaRPr b="0" lang="en-US" sz="2500" spc="-1" strike="noStrike">
              <a:solidFill>
                <a:srgbClr val="103154"/>
              </a:solidFill>
              <a:latin typeface="Corbel"/>
            </a:endParaRPr>
          </a:p>
          <a:p>
            <a:pPr marL="285840" indent="-285840">
              <a:buClr>
                <a:srgbClr val="1031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03154"/>
              </a:solidFill>
              <a:latin typeface="Corbel"/>
            </a:endParaRPr>
          </a:p>
        </p:txBody>
      </p:sp>
      <p:pic>
        <p:nvPicPr>
          <p:cNvPr id="629" name="Picture 4" descr=""/>
          <p:cNvPicPr/>
          <p:nvPr/>
        </p:nvPicPr>
        <p:blipFill>
          <a:blip r:embed="rId1"/>
          <a:stretch/>
        </p:blipFill>
        <p:spPr>
          <a:xfrm>
            <a:off x="243000" y="3016080"/>
            <a:ext cx="253980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ssessment b</a:t>
            </a:r>
            <a:endParaRPr b="0" lang="en-US" sz="3800" spc="-1" strike="noStrike">
              <a:solidFill>
                <a:srgbClr val="174576"/>
              </a:solidFill>
              <a:latin typeface="Corbel"/>
            </a:endParaRPr>
          </a:p>
        </p:txBody>
      </p:sp>
      <p:sp>
        <p:nvSpPr>
          <p:cNvPr id="631" name=""/>
          <p:cNvSpPr txBox="1"/>
          <p:nvPr/>
        </p:nvSpPr>
        <p:spPr>
          <a:xfrm>
            <a:off x="779040" y="1949400"/>
            <a:ext cx="7859880" cy="4006800"/>
          </a:xfrm>
          <a:prstGeom prst="rect">
            <a:avLst/>
          </a:prstGeom>
          <a:noFill/>
          <a:ln w="0">
            <a:noFill/>
          </a:ln>
        </p:spPr>
        <p:txBody>
          <a:bodyPr anchor="t">
            <a:normAutofit fontScale="97000"/>
          </a:bodyPr>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rite an introductory paragraph for the FRQ prompt utilizing the 2-1-1 Method</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2 Background Sentence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1 Thesis Sentence</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1 Roadmap Sentence</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You have 8 minutes. After the time is up, you will exchange with a neighbor and give them your evaluation of the paragraph.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hen you get your paragraph back, track your progress on the Learning Goal handout</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2:53:07Z</dcterms:created>
  <dc:creator>Mark Scacewater</dc:creator>
  <dc:description/>
  <dc:language>en-US</dc:language>
  <cp:lastModifiedBy>Mark Scacewater</cp:lastModifiedBy>
  <dcterms:modified xsi:type="dcterms:W3CDTF">2012-08-02T18:55:22Z</dcterms:modified>
  <cp:revision>39</cp:revision>
  <dc:subject/>
  <dc:title>PowerPoint Presentation</dc:title>
</cp:coreProperties>
</file>